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notesSlide6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56EC-E17E-4C0A-8B87-65B576FED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: How should we draw the line between normality and dis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2: What perspectives can help us understand psychological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3: How and why do clinicians classify psychological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4: Why do some psychologists criticize the use of diagnostic lab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5: What are anxiety disorders, and how do they differ from ordinary worries and fe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6: What produces the thoughts and feelings that mark anxiety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7: What are somatoform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8: What are dissociative disorders, and why are they controversial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9: What are mood disorders, and what forms do they ta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0: What causes mood disorders, and what might explain the Western world’s rising incidence of depression among youth and young adul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1: What patterns of thinking, perceiving, feeling, and behaving characterize schizophreni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2: What causes schizophreni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3: What characteristics are typical of personality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4: How many people suffer, or have suffered, from a psychological dis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C3F-5D9B-4442-8FA5-5AFF3E17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F23-F67C-4532-AF7D-F56D6C57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999-AF2B-4FF4-8340-9D7B2EF6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6B9-CAB0-418D-8F9B-2CD046F6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669-5805-4F46-9D0D-67DB576D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C73-102A-4BE6-BFCA-17CE4C39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00C-CE96-4C7F-82F1-34AE0695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DCF-9202-4445-87DB-0363551A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8AD-56FF-4E72-822E-DD20B2C4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C38-7BE8-4466-952B-AEDB4920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1D3-12BC-4211-8764-6E89627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B40-3E6D-4CC6-B859-AB4DCDBB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6ACD-79ED-4631-8778-C75F5283E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9th Edition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D16-19DF-4BAE-B2F2-9DE974EAFB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fin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ntal health workers view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sychological disorder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s persistently harmful thoughts, feelings, and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3505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behavior is 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deviant, distressful, and dysfunctional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psychiatrists and psychologists label it as disordered (Comer, 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C08-D53D-4EF8-BB0E-EF582123FD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viant, Distressful &amp; Dysfunc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eviant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behavior (going naked) in one culture may be considered normal, while in others it may lead to arr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Deviant behavior must accompany </a:t>
            </a: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istress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If a behavior is </a:t>
            </a: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ysfunctional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it is clearly a dis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76920" y="1582560"/>
            <a:ext cx="3809880" cy="3141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013360" y="4765680"/>
            <a:ext cx="344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n the Wodaabe tribe men wear costumes to attract women. In Western society this would be considered ab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8317080" y="414936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ol Beck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3F2-9ED1-4315-B279-2F614309901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1600" y="1676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ncient Treatments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f psychological disorders include trephination, exorcism, being caged like animals, being beaten, burned, castrated, mutilated, or transfused with animal’s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13240" y="3505320"/>
            <a:ext cx="2111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9400" y="6248520"/>
            <a:ext cx="75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rephination (boring holes in the skull to remove evil fo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5361840" y="452484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hn W. Ver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29C-993C-48A0-AEE0-72A7840CEB9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Medic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876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ilippe Pinel (1745-1826) from France, insisted that madness was not due to demonic possession, but an ailment of the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71840" y="3048120"/>
            <a:ext cx="3976560" cy="311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15000" y="6248520"/>
            <a:ext cx="30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ance in the madho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5131080" y="4648320"/>
            <a:ext cx="3029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eorge Wesley Bellows, </a:t>
            </a: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Dancer in a Madhous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1907. © 1997 The Art Institute of Chicag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57D-3D88-4DB1-8688-601E3C85D7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edic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physicians discovered that syphilis led to mental disorders, they started using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medical model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to review the physical causes of these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61920" y="3429000"/>
            <a:ext cx="7177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Etiolog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Cause and development of the dis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Diagnosi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dentifying (symptoms) and distinguishing one disease from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reatment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reating a disorder in a psychiatric hos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ognosi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Forecast about the dis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471-F5DB-4140-B1BB-1B49711977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psychosocial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ssumes that biological, socio-cultural, and psychological factors combine and interact to produce psychologic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5562360" cy="36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F73-453E-4ADD-B1DF-57999F782D7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assify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American Psychiatric Association rendered a Diagnostic and Statistical Manual of Mental Disorders (DSM) to describe psychologic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140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most recent edition, DSM-IV-TR (Text Revision, 2000), describes 400 psychological disorders compared to 60 in the 195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180-3865-4162-9444-CA2890AB74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0320" y="4367160"/>
            <a:ext cx="641016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re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Psychosocial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Environmental Problem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school or housing issues) also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367160"/>
            <a:ext cx="137160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0320" y="5264280"/>
            <a:ext cx="6410160" cy="9842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at is the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Global Assessmen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the person’s 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64280"/>
            <a:ext cx="1371600" cy="9842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0320" y="3422520"/>
            <a:ext cx="6410160" cy="86832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General Medical Condi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diabetes, hypertension or arthritis etc) also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422520"/>
            <a:ext cx="1371600" cy="86832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0320" y="2514600"/>
            <a:ext cx="641016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Mental Retarda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514600"/>
            <a:ext cx="137160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0320" y="1617840"/>
            <a:ext cx="6410160" cy="8204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Clinical Syndrom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cognitive, anxiety, mood disorders [16 syndromes])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617840"/>
            <a:ext cx="1371600" cy="8204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9120" y="1566720"/>
            <a:ext cx="168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" y="5881680"/>
            <a:ext cx="168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120" y="15667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10480" y="15667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0320" y="1566720"/>
            <a:ext cx="641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9120" y="23875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10480" y="23875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9120" y="3208320"/>
            <a:ext cx="0" cy="86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10480" y="3208320"/>
            <a:ext cx="0" cy="86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120" y="407664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610480" y="407664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9120" y="4897440"/>
            <a:ext cx="0" cy="98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10480" y="4897440"/>
            <a:ext cx="0" cy="98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0320" y="5881680"/>
            <a:ext cx="641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0C0-D35A-4ABB-A215-BD7A011BA3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71400" y="1986120"/>
            <a:ext cx="7772400" cy="4338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86040" y="1447920"/>
            <a:ext cx="5348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414360" indent="-41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te 16 syndromes in Ax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A65-7B5F-44BD-90D4-A4FCB7B64A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71400" y="2133720"/>
            <a:ext cx="776916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09800" y="1447920"/>
            <a:ext cx="710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te Global Assessment for Axis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DBF-3D57-4D7D-AEE9-BEBDD5CBAE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5800" y="2681280"/>
            <a:ext cx="768204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64132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619-A076-486D-9E16-B5F706DEED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oals of D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47440" y="160020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scribe (400) dis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termine how prevalent the disorder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1400" y="28954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orders outlined by DSM-IV are reliable. Therefore, diagnoses by different professionals are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1400" y="468648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thers criticize DSM-IV for “putting any kind of behavior within the compass of psychiatr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240-8477-4C0D-9582-8CB8BC7822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itics of the DSM-IV argue that labels may stigmatize individu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05080" y="2743200"/>
            <a:ext cx="4495680" cy="3549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26120" y="628488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sylum baseball team (labe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5399280" y="467064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izabeth Eckert, Middletown, NY. From L. Gamwell 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. Tomes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Madness in America,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95. Cornell University Pres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D3A-A843-40A8-9D62-2A6E87B066A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bels may be helpful for healthcare professionals when communicating with one another and establishing thera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295-C3B5-46C0-B2E5-FB37BEA660F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“Insanity” labels raise moral and ethical questions about how society should treat people who have disorders and have committed cr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675240" cy="4371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91520" y="5972040"/>
            <a:ext cx="2632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odore Kaczyn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Unabomb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004960" y="5029200"/>
            <a:ext cx="164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aine Thompson/ AP Pho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CC9-9627-4FDF-92A8-1843848CA6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nxie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elings of excessive apprehension and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97180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nic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st-traumatic stress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1DF-BFC8-4D86-8B99-6DAA2D3413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ized Anxiety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4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istent and uncontrollable tenseness and apprehen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400" y="3581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utonomic arou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1400" y="4114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ability to identify or avoid the cause of certain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59320" y="1866960"/>
            <a:ext cx="19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B44-538C-42AC-A5E8-755D2AD1E0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anic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40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inutes-long episodes of intense dread which may include feelings of terror, chest pains, choking, or other frightening sens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1400" y="44956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xiety is a component of both disorders. It occurs more in the panic disorder, making people avoid situations that caus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59320" y="1866960"/>
            <a:ext cx="19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A9B-D5C0-45A5-B6E5-FC88CCB8E4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hob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160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rked by a persistent and irrational fear of an object or situation that disrupts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5440" y="2971800"/>
            <a:ext cx="7924680" cy="29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130-CCA2-491A-9697-BDBF106B20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Kinds of Phob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33720" y="457200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1920" y="457200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em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33720" y="3581280"/>
            <a:ext cx="4295880" cy="838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closed sp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61920" y="3581280"/>
            <a:ext cx="2833920" cy="838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rmAutofit fontScale="93000"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austr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33720" y="259092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h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61920" y="259092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r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33720" y="160020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open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61920" y="160020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gora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1400" y="1981080"/>
            <a:ext cx="2833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400" y="5334120"/>
            <a:ext cx="2833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1400" y="19810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58200" y="19810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1400" y="28195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58200" y="28195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1400" y="365760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58200" y="365760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1400" y="44956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44956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5334120"/>
            <a:ext cx="495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1C1-C91A-46EF-9F1C-4BDD937F26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istence of unwanted thoughts (obsessions) and urges to engage in senseless rituals (compulsions) that cause di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620120" cy="32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69E-61D5-432A-8DEE-2139DAFA3A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80880" y="1595160"/>
            <a:ext cx="65624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erspectives on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fin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assify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94B-7537-406C-B6E3-CBF319BE527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880" y="1585440"/>
            <a:ext cx="419112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PET scan of the brain of a person with Obsessive-Compulsive Disorder (OCD). High metabolic activity (red) in the frontal lobe areas are involved with directing att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014800" y="1585800"/>
            <a:ext cx="3721320" cy="4322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714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rain Ima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5280" y="59245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Brain image of an O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93B-33E6-48E3-8606-9F20B138EDE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st-Traumatic Stress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 or more weeks of the following symptoms constitute post-traumatic stress disorder (PTS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2767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unting mem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8098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ightm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3880" y="4329000"/>
            <a:ext cx="39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ocial withdraw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9200" y="4876920"/>
            <a:ext cx="3267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Jumpy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486400"/>
            <a:ext cx="381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leep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3809880" cy="3114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rot="5400000">
            <a:off x="8267760" y="5498280"/>
            <a:ext cx="10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ttmann/ 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30C-B0DB-4320-8029-530EDB3CC8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esilience to PTS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nly about 10% of women and 20% of men react to traumatic situations and develop PTS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1400" y="3124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locaust survivors show remarkable resilience against traumatic situ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4572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l major religions of the world suggest that surviving a trauma leads to the growth of an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F6E-D086-4155-B608-406CA57516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laining Anxie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reud suggested that we repress our painful and intolerable ideas, feelings, and thoughts, resulting in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1A2-8E3D-476A-9863-8A8D1652F7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Learning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1400" y="1600200"/>
            <a:ext cx="39006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arning theorists suggest that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ear conditio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leads to anxiety. This anxiety then becomes associated with other objects or events (stimulus generalization) and is reinfor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86320" y="1600200"/>
            <a:ext cx="3057480" cy="4572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5400000">
            <a:off x="7775640" y="526032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hn Coletti/ Stock, Bo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5BC-307C-41F0-8EF9-1CC905A5A30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Learning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60020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vestigators believe that fear responses are inculcated throug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observational lear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 Young monkeys develop fear when they watch other monkeys who are afraid of sna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4CA-AF76-45A6-ABAF-12297B5EE9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160020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atural Selec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has led our ancestors to learn to fear snakes, spiders, and other animals. Therefore, fear preserves the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396252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win studies suggest that our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may be partly responsible for developing fears and anxiety. Twins are more likely to share   phob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B0B-C50D-49E9-8C83-FE79738D42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3900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, panic attacks, and even OCD are linked wit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ircuits like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anterior cingulate co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800600" y="1625760"/>
            <a:ext cx="4013280" cy="3403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174640" y="5051520"/>
            <a:ext cx="32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nterior Cingulate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f an OCD pat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7040880" y="3165120"/>
            <a:ext cx="384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. Ursu, V.A. Stenger, M.K. Shear, M.R. Jones, &amp; C.S. Carter (2003). Overactive a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nitoring in obsessive-compulsive disorder.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Psychological Science, 14,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347-35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29C-1AEC-4EE8-A899-8D6776FFF0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issociative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nscious awareness becomes separated (dissociated) from previous memories, thoughts, and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73360" y="3505320"/>
            <a:ext cx="19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415296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ving a sense of being un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468648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ing separated from 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61960" y="5205240"/>
            <a:ext cx="69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atching yourself as if in a mov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E67-4219-468D-84AE-2681A26A2AD7}" type="slidenum">
              <a:t>38</a:t>
            </a:fld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sociative Identity Disorder (DI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disorder in which a person exhibits two or more distinct and alternating personalities, formerly called multiple personality dis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00200" y="3246480"/>
            <a:ext cx="4114800" cy="2925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196800" y="619452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hris Sizemore (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5850000" y="5182920"/>
            <a:ext cx="177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is Bernstein/ Gamma Lia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646-EB18-4791-9866-9213F78B648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80880" y="1143000"/>
            <a:ext cx="6872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Anxiety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nic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st-Traumatic Stress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Anxiety Disor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Somatoform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7F3-3DA5-4D84-8A5D-015684B5FC0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ID Cr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ritics argue that the diagnosis of DID increased in the lat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 Linotyp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century. DID has not been found in other cou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85960" y="3505320"/>
            <a:ext cx="3741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itics’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152960"/>
            <a:ext cx="69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ole-playing by people open to a therapist’s sugg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5295960"/>
            <a:ext cx="62481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arned response that reinforces reductions in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1E7-4B22-4B56-8616-906571F72157}" type="slidenum">
              <a:t>40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ood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extremes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mood disorder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ome in two principal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04840" y="34290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353-3EBC-418D-B546-8B02B4B1953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7360" y="1600200"/>
            <a:ext cx="7800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on is the “common cold” of psychological disorders. In a year, 5.8% of men and 9.5% of women report depression worldwide (WHO, 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4803840"/>
            <a:ext cx="3886200" cy="834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hronic shortness of br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803840"/>
            <a:ext cx="3886200" cy="834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asping for air after a  hard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4038480"/>
            <a:ext cx="3886200" cy="685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4038480"/>
            <a:ext cx="3886200" cy="685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lue m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14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14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14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438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14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4438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576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01C-4AC6-4A5B-BD94-1E5894BB2B0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 occurs when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ig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f depression last two weeks or more and are not caused by drugs or medic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3886200"/>
            <a:ext cx="5562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ethargy and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eelings of worthles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oss of interest in family &amp;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oss of interest i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85960" y="3490920"/>
            <a:ext cx="3741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gn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065-B37C-4F5E-837E-83B9D13D2C9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merly called manic-depressive disorder. An alternation between depression and mania signals bipolar dis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57600" y="5869080"/>
            <a:ext cx="3886200" cy="45540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ultipl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57600" y="5413320"/>
            <a:ext cx="3886200" cy="45576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yper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57600" y="4957920"/>
            <a:ext cx="3886200" cy="45540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sire fo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7600" y="4438800"/>
            <a:ext cx="3886200" cy="51912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uph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57600" y="3936960"/>
            <a:ext cx="3886200" cy="50184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7600" y="3124080"/>
            <a:ext cx="3886200" cy="67788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nic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1400" y="5869080"/>
            <a:ext cx="3886200" cy="455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lowness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1400" y="5413320"/>
            <a:ext cx="3886200" cy="455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1400" y="4957920"/>
            <a:ext cx="3886200" cy="455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ability to make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1400" y="4438800"/>
            <a:ext cx="3886200" cy="51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dra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1400" y="3936960"/>
            <a:ext cx="3886200" cy="501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lo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1400" y="3124080"/>
            <a:ext cx="3886200" cy="677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pressive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1400" y="32004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1400" y="62658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1400" y="3200400"/>
            <a:ext cx="0" cy="677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43800" y="3200400"/>
            <a:ext cx="0" cy="677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1400" y="3878280"/>
            <a:ext cx="0" cy="501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43800" y="3878280"/>
            <a:ext cx="0" cy="501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57600" y="32004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1400" y="4379760"/>
            <a:ext cx="0" cy="51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43800" y="4379760"/>
            <a:ext cx="0" cy="51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1400" y="489888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43800" y="489888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1400" y="535464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443800" y="535464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1400" y="5810400"/>
            <a:ext cx="0" cy="455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43800" y="5810400"/>
            <a:ext cx="0" cy="455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57600" y="62658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909-2333-4B5D-BC1B-678A960FD93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7360" y="1600200"/>
            <a:ext cx="7800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ny great writers, poets, and composers suffered from bipolar disorder. During their manic phase creativity surged, but not during their depressed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85800" y="3657600"/>
            <a:ext cx="7772400" cy="2470680"/>
            <a:chOff x="685800" y="3657600"/>
            <a:chExt cx="7772400" cy="247068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685800" y="3657600"/>
              <a:ext cx="777240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848880" y="572760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Whitm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96360" y="572940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Wol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84200" y="57294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Cleme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98600" y="572940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Heming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5400000">
            <a:off x="2016720" y="5170680"/>
            <a:ext cx="99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ettmann/ Corb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3293280" y="4681800"/>
            <a:ext cx="231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orge C. Beresford/ Hulton Getty Pictures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5878080" y="5032800"/>
            <a:ext cx="127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Granger Coll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7449480" y="4646880"/>
            <a:ext cx="22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arl Theissen/ Hulton Getty Pictures Libr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9D2-8887-45C7-9129-85218CB991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laining Mood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nce depression is so prevalent worldwide, investigators want to develop a theory of depression that will suggest ways to treat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1400" y="33386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winsohn et al., (1985, 1998) note that a theory of depression should explain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4572000"/>
            <a:ext cx="6372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havioral and cognitiv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mmon causes of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1DF-1BD2-4DC5-92CD-09723CCD18F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ory of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62120" y="1600200"/>
            <a:ext cx="397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der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47840" y="2927520"/>
            <a:ext cx="8229600" cy="25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951-EC7A-4302-ADFD-3525281A7E3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ory of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6320" y="1600200"/>
            <a:ext cx="7710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ve episodes self-termin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ressful events often precede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on is increasing, especially in the te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508200" y="3200400"/>
            <a:ext cx="2129040" cy="31240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022560" y="6324480"/>
            <a:ext cx="30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ost-partum de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4875120" y="5313600"/>
            <a:ext cx="176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iree Navarro/ Getty I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875-3EBE-4C45-A75D-777FD202EF7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ic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most severe form of behavioral response to depression is suicide. Each year some 1 million people commit suicide worldw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3520" y="3214800"/>
            <a:ext cx="4038480" cy="3109680"/>
            <a:chOff x="533520" y="3214800"/>
            <a:chExt cx="4038480" cy="3109680"/>
          </a:xfrm>
        </p:grpSpPr>
        <p:sp>
          <p:nvSpPr>
            <p:cNvPr id="308" name=""/>
            <p:cNvSpPr/>
            <p:nvPr/>
          </p:nvSpPr>
          <p:spPr>
            <a:xfrm>
              <a:off x="533520" y="3657600"/>
              <a:ext cx="403848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578880" indent="-5788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National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8880" indent="-5788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Racial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8880" indent="-5788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Gender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8880" indent="-5788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Age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8880" indent="-5788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Other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57680" y="3214800"/>
              <a:ext cx="299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Suicide Statisti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0" y="4202280"/>
            <a:ext cx="4267080" cy="18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367-6017-4B59-AFB3-66745AC5CA1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90840" y="1218960"/>
            <a:ext cx="59385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Dissociative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sociative Identi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Dissociative Identi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Mood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Mood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A29-B2D2-447A-8A0D-CDCADA4EBD4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772160" y="3503520"/>
            <a:ext cx="3990960" cy="2668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tic Influences: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Mood disorders run in families. The rate of depression is higher in identical (50%) than fraternal twins (20%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350532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Linkage analysi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ssociation studie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link possible genes and dispositions for de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8170200" y="5334480"/>
            <a:ext cx="142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erry Irwin Phot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607-7D36-4E71-8F2C-8C9977D37C7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Depressed B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1600" y="1600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T scans show that brain energy consumption rises and falls with manic and depressive epis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315200" cy="3041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5400000">
            <a:off x="7395120" y="46404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urtesy of Lewis Baxter an Michael 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helps, UCLA School of Medic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3F6-1A72-46F9-B056-747644FAE97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ocial-Cognitive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social-cognitive perspective suggests that depression arises partly from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elf-defeating belief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egative explanatory styl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084400" y="3200400"/>
            <a:ext cx="4973760" cy="33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CFE-52F6-4FFB-9F60-7D2E78BB9AA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Negative Thoughts and Mo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8520" y="5791320"/>
            <a:ext cx="833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23000" indent="-4230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xplanatory style plays a major role in becoming de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182680" y="1600200"/>
            <a:ext cx="47498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A36-BFA2-48FA-814C-FA217463D9A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epressi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egative stressful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essimistic explanatory sty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peless depressed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se hamper the way the individual thinks and acts, fueling personal re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52880" cy="279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DC1-F290-484A-B41C-C754D7E7290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71400" y="276120"/>
            <a:ext cx="77724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1400" y="141876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literal translation is “split mind” which refers to a split from reality. A group of severe disorders characterized by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19160" y="2971800"/>
            <a:ext cx="52833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organized and delusional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turbed percep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appropriate emotions and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7A7-CB8F-489B-B43B-6DD7650F986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ymptoms of Schizophr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133720"/>
            <a:ext cx="754380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Positive symptoms: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the presence of inappropriate behaviors (hallucinations, disorganized or delusional talk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Negative symptoms: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the absence of appropriate behaviors (expressionless faces, rigid bod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CF9-626E-47BF-9CFF-4A5BF0CBBD9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71400" y="4510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ther forms of delusions include, delusions of persecution (“someone is following me”) or grandeur (“I am a king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organized &amp; Delusional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1400" y="16002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s morning when I was at Hillside [Hospital], I was making a movie. I was surrounded by movie stars … I’m Mary Poppins. Is this room painted blue to get me upset? My grandmother died four weeks after my eighteenth birthda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47120" y="34290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(Sheehan, 19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1400" y="4529160"/>
            <a:ext cx="77724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monologue illustrates fragmented, bizarre thinking with distorted beliefs calle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elusio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“I’m Mary Poppins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9EE-E6D0-4C0D-B196-38F631701303}" type="slidenum">
              <a:t>57</a:t>
            </a:fld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organized &amp; Delusional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ny psychologists believe disorganized thoughts occur because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elective atten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failure (fragmented and bizarre though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C5F-E72A-4262-B9BE-F248203F52D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turbed Perce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schizophrenic person may perceive things that are not there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hallucinatio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 Frequently such hallucinations are auditory and lesser visual, somatosensory, olfactory, or gusta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433520" y="3429000"/>
            <a:ext cx="6248520" cy="29574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 rot="5400000">
            <a:off x="6379200" y="4873680"/>
            <a:ext cx="2800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. Berthold, </a:t>
            </a: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Untitled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The Prinzhorn Collection, University of Heidelbe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3813120" y="4889160"/>
            <a:ext cx="309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ugust Natter, </a:t>
            </a: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Witches Head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The Prinzhorn Collection, University of Heidelbe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-79920" y="4890240"/>
            <a:ext cx="2818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hotos of paintings by Krannert Museum, University of Illinois at Urbana-Champaig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356-A2AA-4783-AFDE-C6606EFCA6A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6781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Schizophr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mptoms of Schizophr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nset and Development of Schizophr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nderstanding Schizophr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Personality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tisocial Personality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Rates of Psychological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5E2-306B-471D-A253-CBBFBD564E5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appropriate Emotions &amp;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schizophrenic person may laugh at the news of someone dying or show no emotion at all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lat affec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1400" y="4025880"/>
            <a:ext cx="77724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tients with schizophrenia may continually rub an arm, rock a chair, or remain motionless for hour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atatoni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329-0E15-4858-960A-76FD3BBB31B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1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nset and Development of 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14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arly 1 in a 100 suffer from schizophrenia, and throughout the world over 24 million people suffer from this disease (WHO, 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1400" y="41911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strikes young people as they mature into adults. It affects men and women equally, but men suffer from it more severely than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8B9-E531-46C5-84A6-C47D53ECA73B}" type="slidenum">
              <a:t>61</a:t>
            </a:fld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hronic and Acute Schizophr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schizophrenia is slow to develop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hronic/proces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recovery is doubtful. Such schizophrenics usually display negative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14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schizophrenia rapidly develop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cute/reacti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recovery is better. Such schizophrenics usually show positive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7B5-07FB-4DD9-BC5D-804E8E17B08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Understanding 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is a disease of the brain exhibited by the symptoms of the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1400" y="39625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opamine Overactivity: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searchers found that schizophrenic patients express higher levels of dopamine D4 receptors in the b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34920" y="3419640"/>
            <a:ext cx="36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Abnorm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421-40E8-48B3-A997-E3FD6DD9AD6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bnormal Brain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scans show abnormal activity in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rontal cortex, thalamus,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d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 amygdal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f schizophrenic pati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276200" y="3581280"/>
            <a:ext cx="6553440" cy="2725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 rot="5400000">
            <a:off x="6538680" y="471528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ul Thompson and Arthur W. Toga, UCLA Laboratory of Neu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maging and Judith L. Rapport, National Institute of Mental Heal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69F-0709-4451-9BAC-1DE39AD06BE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bnormal Brain Morph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patients may exhibit morphological changes in the brain like enlargement of fluid-filled ventri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28880" y="3200400"/>
            <a:ext cx="5257800" cy="31780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 rot="5400000">
            <a:off x="5884200" y="4507920"/>
            <a:ext cx="280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oth Photos: Courtesy of Daniel R. Weinberger, M.D., NIH-NIMH/ N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9DB-1B58-4C5F-8C5A-1B522F1EF16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iral Inf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has also been observed in individuals who contracted a viral infection (flu) during the middle of their fetal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E60-2EBC-4753-B11D-BD8B6D05E11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likelihood of an individual suffering from schizophrenia is 50% if their identical twin has the disease (Gottesman,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190600" y="3230640"/>
            <a:ext cx="5072040" cy="3273840"/>
            <a:chOff x="2190600" y="3230640"/>
            <a:chExt cx="5072040" cy="3273840"/>
          </a:xfrm>
        </p:grpSpPr>
        <p:sp>
          <p:nvSpPr>
            <p:cNvPr id="373" name=""/>
            <p:cNvSpPr/>
            <p:nvPr/>
          </p:nvSpPr>
          <p:spPr>
            <a:xfrm>
              <a:off x="4386240" y="3562200"/>
              <a:ext cx="265752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98840" y="3994200"/>
              <a:ext cx="246096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12360" y="3230640"/>
              <a:ext cx="305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0    10    20    30    40    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19760" y="35956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Iden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37000" y="399564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Both par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98840" y="4424400"/>
              <a:ext cx="86220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57120" y="441468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Fra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98840" y="4854600"/>
              <a:ext cx="61596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45800" y="485784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One 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03880" y="5286240"/>
              <a:ext cx="42552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37200" y="5276880"/>
              <a:ext cx="101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Sib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00640" y="5716440"/>
              <a:ext cx="24444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90600" y="5707080"/>
              <a:ext cx="22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Nephew or nie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00640" y="6119640"/>
              <a:ext cx="60120" cy="30672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86200" y="6105600"/>
              <a:ext cx="138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Unre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875-E226-49E3-A28E-9ECA2A3D843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following shows the prevalence of schizophrenia in identical twins as seen in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204920" y="3200400"/>
            <a:ext cx="670572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A30-1C4B-4DB5-8D9F-48A32B2838B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ical and environmental factors can trigger schizophrenia if the individual is genetically predisposed (Nicol &amp; Gottesman, 198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900000" y="3463920"/>
            <a:ext cx="3291120" cy="28414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96960" y="630864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Genain S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346392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genetically identical Gen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sters suffer from schizophrenia. Two more than others, thus there are contributing environment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400000">
            <a:off x="3587040" y="5477400"/>
            <a:ext cx="14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urtesy of Genain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85D-0AF2-4A70-9981-52F474CA54A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 felt the need to clean my room … would spend four to five hours at it… At the time I loved doing it. Then I didn't want to do it any more, but I couldn’t stop… The clothes hung… two fingers apart… I touched my bedroom wall before leaving the house… I had constant anxiety… I thought I might be n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038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Marc, diagnos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from Summers, 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EDB-86A6-4433-908F-06A6094DBBF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ersonali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onality disorders are characterized by inflexible and enduring behavior patterns that impair social functioning. They are usually without anxiety, depression, or delu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160960" y="1600200"/>
            <a:ext cx="32828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A02-4487-4B6A-A269-7CFAED6FE85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disorder in which the person (usually men) exhibits a lack of conscience for wrongdoing, even toward friends and family members. Formerly, this person was called a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sociopath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psycho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611-D71B-4B58-9B42-D7125F10D7E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ike mood disorders and schizophrenia, antisocial personality disorder has biological and psychological reasons. Youngsters, before committing a crime, respond with lower levels of stress hormones than others do at their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648320" y="1913040"/>
            <a:ext cx="4114800" cy="40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2B4-BEB6-4A03-9F0B-528DE1B9610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T scans of 41 murderers revealed reduced activity in the frontal lobes. In a follow-up study, repeat offenders had 11% less frontal lobe activity (Raine et al., 1999;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866960" y="3720960"/>
            <a:ext cx="5376960" cy="2797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604240" y="645624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64000" y="64612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rd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6493680" y="5370480"/>
            <a:ext cx="189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Adrian Rain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versity of Southern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516-D160-4813-8EC7-2BC0EA2738F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tes of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585800" y="1523880"/>
            <a:ext cx="5943600" cy="465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0DC-2130-4D47-8D53-1A08D6F38F0F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tes of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04760" y="2838600"/>
            <a:ext cx="7115400" cy="3581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428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prevalence of psychological disorders during the previous year is shown below (WHO, 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5F3-175E-4BD8-9626-65B2A8CBC073}" type="slidenum">
              <a:t>75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ople are fascinated by the exceptional, the unusual, and the abnormal. This fascination may be caused by two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1400" y="35053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uring various moments we feel, think, and act like an abnormal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sychological disorders may bring unexplained physical symptoms, irrational fears, and suicidal thou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213-B0A1-4EFF-AE49-D4814F2277EF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study the abnormal is the best way of understanding the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1400" y="35053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re are 450 million people suffering from psychological disorders (WHO, 20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pression and schizophrenia exist in all cultures of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57184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William James (1842-19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891-3BF1-41EA-A448-7BB25136FE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Ptwickler</cp:lastModifiedBy>
  <dcterms:modified xsi:type="dcterms:W3CDTF">2009-04-03T16:03:02Z</dcterms:modified>
  <cp:revision>1256</cp:revision>
  <dc:subject/>
  <dc:title>Memory</dc:title>
</cp:coreProperties>
</file>